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1EB-515A-46AA-8036-88910248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128-99D3-4BB4-ACDD-427D3C9E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90A-57A5-4865-B660-D622BD85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823-DA49-4CCD-906E-4B40E7D0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DC34-3105-4128-930E-AFA7FC6F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296-6703-4CA7-89FC-1FDF1AD0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3ACE-5654-4A3E-90B2-2012E0C5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825-7AC8-4D1A-B0A4-5A00C968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0BB4-9803-4A14-88FD-0F66AA59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199-4A27-4A49-8F3F-EC6AF00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AFB-8265-4705-B717-4FC9465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A52-F8EB-4B7E-9B1B-328E9C6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E0B7-CFBB-4647-ACB9-ABEBE30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E00C-F092-46BC-ABD7-A40907A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FA92-E163-4890-826A-91349E8D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3029-71BB-414B-8D60-A8603BB1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53F2-9DC9-4A84-A20F-AEB4C918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7B2-F769-4581-9C42-741777C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3A1-55AB-4837-9BF5-B931222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F11-5472-4F8A-82F1-193FB80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284-9ABC-4ABF-BAD0-07767390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BA3-0050-473A-9B83-D6A917D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8E2-A13A-4676-A94D-AB35E9E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05A-0622-42EA-AB19-DA0BDEA6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344-CADF-47B6-907D-B52BC304F7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D4C3-1386-40DD-B043-C5D30B4D02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İRİM KARE m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rede birim kar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1628640"/>
            <a:ext cx="5040360" cy="4681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537372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2565360"/>
            <a:ext cx="100800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162864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350028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443700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437000"/>
            <a:ext cx="100836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5373720"/>
            <a:ext cx="100836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3500280"/>
            <a:ext cx="100836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565360"/>
            <a:ext cx="100836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162864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162864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162864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1628640"/>
            <a:ext cx="1008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443700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350028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256536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256536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256536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443700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537372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350028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443700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3500280"/>
            <a:ext cx="1008000" cy="935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537372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5373720"/>
            <a:ext cx="1008000" cy="93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x 5 = 25 =&gt; birim k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6673680"/>
            <a:ext cx="31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Üçgende birim k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220500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20500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220500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220500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479736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93372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306864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79736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393372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306864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20500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03280" y="393372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3280" y="306864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479736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06864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06864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11640" y="306864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0000" y="393372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1640" y="393372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93372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0000" y="479736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797360"/>
            <a:ext cx="936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11640" y="479736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2205000"/>
            <a:ext cx="93672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2205000"/>
            <a:ext cx="2808360" cy="259236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402920" y="2205000"/>
            <a:ext cx="2806920" cy="259236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4797360"/>
            <a:ext cx="5616720" cy="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Üçgende birim karenin hesaplanması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12. sayfaya tekrar göz atalı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Önce tam kareleri sayalı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adet 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Şimdi üçgenleri sayalı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adet üçgen (3 ka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+3=9 =&gt; bu üçgenin birim kar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5724360" y="6491160"/>
            <a:ext cx="31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irim kareleri hesaplama bitti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Şimdi etkinlikl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1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 Barış’ın yatağının alanı kaç cm2’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2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adaki halının alanı kaç metre kare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HMİN ET, ÖLÇ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133720"/>
            <a:ext cx="6480360" cy="30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3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 Barış’ın odasının alanı kaç metre2’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4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abın alanı kaç metre kare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5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 Barış’ın masasının alanı kaç santimetre kare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6673680"/>
            <a:ext cx="31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ru 6: (son soru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 Barış’ın odasının açıkta kalan alanı kaç metre karedi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4360" y="1773360"/>
            <a:ext cx="295092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Ya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6360" y="260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in Barış’ın odas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119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765000"/>
            <a:ext cx="8424720" cy="590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2000" y="5516640"/>
            <a:ext cx="1152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76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67280" y="5229360"/>
            <a:ext cx="576000" cy="13665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24360" y="47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58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0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00720" y="1413000"/>
            <a:ext cx="4248000" cy="33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00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172360" y="278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2764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71628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Denizevleri İ.Ö.O’Na İyi Dersler</a:t>
            </a:r>
            <a:br>
              <a:rPr sz="8000"/>
            </a:b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Saygılarımla…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140000" y="6092640"/>
            <a:ext cx="5003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AHMİN OLARAK KAÇ BİRİM KARE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6491160"/>
            <a:ext cx="31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2133720"/>
            <a:ext cx="6480360" cy="30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133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3141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149720"/>
            <a:ext cx="108108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133720"/>
            <a:ext cx="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115640" y="515772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x 6 = 18 =&gt; birim k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64911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hmin et, ölç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492280"/>
            <a:ext cx="4032360" cy="403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3500280"/>
            <a:ext cx="1008360" cy="100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4508640"/>
            <a:ext cx="100836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492280"/>
            <a:ext cx="100836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249228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249228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5516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4508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3500280"/>
            <a:ext cx="1008000" cy="100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249228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508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3500280"/>
            <a:ext cx="1008000" cy="100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3500280"/>
            <a:ext cx="1008000" cy="1008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5516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5516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508640"/>
            <a:ext cx="100800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5516640"/>
            <a:ext cx="100836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4 x 4 = 16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ani 16 Birim Kared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6491160"/>
            <a:ext cx="31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lgiler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e ve dikdörtgenin birim karelerinin nasıl sayılacağını anladık herhalde. Ama biz yinede gözden geçirelim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kdörtgende birim karele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2852640"/>
            <a:ext cx="5040360" cy="252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486900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860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43657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3357720"/>
            <a:ext cx="50328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2852640"/>
            <a:ext cx="5029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2852640"/>
            <a:ext cx="50328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860640"/>
            <a:ext cx="50292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3357720"/>
            <a:ext cx="5029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357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1672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4869000"/>
            <a:ext cx="5029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4365720"/>
            <a:ext cx="5029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3860640"/>
            <a:ext cx="503280" cy="5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36572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720" y="4869000"/>
            <a:ext cx="5032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 x 5 = 50 =&gt; birim karel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659772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8:45:25Z</dcterms:created>
  <dc:creator>DERE AİLESİ</dc:creator>
  <dc:description/>
  <dc:language>en-US</dc:language>
  <cp:lastModifiedBy>pc</cp:lastModifiedBy>
  <dcterms:modified xsi:type="dcterms:W3CDTF">2012-02-19T17:08:10Z</dcterms:modified>
  <cp:revision>7</cp:revision>
  <dc:subject/>
  <dc:title>ALAN</dc:title>
</cp:coreProperties>
</file>