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51F-88E9-4613-ABB6-DB29E5EB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921-A55C-48D3-8946-5DB9282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73F-3CDF-48BF-A111-AD82542D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52E-263A-4331-BFA1-8BE5ED5F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D52-C50C-4D53-BDAA-0B99FD2D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7A81-2D30-412E-ADB5-41B7D50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BE5B-BD7D-476F-8168-9C67437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040C-0A97-4DD7-879A-ED7892D5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9B12-AA65-4427-8739-6A62F979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F37-97D7-416D-9F03-8EE0424A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6B8-10AC-435A-B943-A03FB78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C31-0D9A-40A5-9E01-E472C1D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FF9D-947A-4A8C-9131-72EAEF5F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355-0570-4200-856B-C04DCE64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A47A-E12E-445C-8ABA-1FC432C6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7FC-FEAC-4AA9-B4F4-EEF510E6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6214-0E22-463F-899C-5251D77E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8A2-BED8-44E2-8F50-3C7807A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6A5-6A67-43AA-899A-0F4E277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58-C42B-4849-816C-4F5D1DE3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DE8-67ED-4681-BE6F-16E3B6B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DF9-8800-4C32-A1BA-FE87CB2A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292-F895-4BE6-998B-3E46365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4B0-9171-4460-895E-75D586B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1DB0-766F-46C7-B6C9-A70FAD31529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1C5-0845-485F-9B79-CEE5E71D5FD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GEOMETRİK CİSİMLER VE ÖZELLİKLERİ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zırlayan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adık CANİKLİ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azi İlköğretim Okul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-A Sınıf Öğretmen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rzifon –AMASYA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KÜ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66920" y="1699920"/>
            <a:ext cx="461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8 köşe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2 ayrıtı(kenarı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6 yüzü(karesel bölge) vardı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yrıtları birbirine eşitt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Yüzleri birbirine eşitt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608120" cy="1303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21132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KARE PRİZ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8 köşe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12 ayrıtı(kenarı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6 yüzü vardı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lt ve üst yüzleri birbirine eş karesel bölge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an yüzlerinin ayrıtlar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birbirine eş dikdörtgens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bölge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1962360" cy="235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2670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DİKDÖRTGENLER PRİZMA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66920" y="1598760"/>
            <a:ext cx="4614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8 köşe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2 ayrıtı(kenarı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6 yüzü vardı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Yüzleri düz ve dikdörtgensel bölged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arşılıklı yüzleri eşitt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2316240" cy="987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367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ÜÇGEN PRİZ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920" y="3573000"/>
            <a:ext cx="76392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6 köşe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9 ayrıtı(kenarı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5 yüzü vardı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lt ve üst yüzleri eşittir. Üçgensel bölge şeklinde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an yüzleri üç tanedir. Her biri dikdörtgensel bölge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5305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İLİNDİ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7997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Köşesi yoktu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yrıtı(kenarı) yoktu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lt ve üst yüzleri birbirine eş daire şeklinde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an yüzü eğridi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an yüzü açıldığın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ikdörtgensel bölge oluşu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0370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KON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9977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öşesi yokt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yrıtı(kenarı) yokt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lt yüzü daire şeklindedir. Diğ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parçası(üst tarafı)eğri yüzeyd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9750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KÜ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6408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ÖZELLİKLERİ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öşesi yokt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yrıtı(kenarı) yokt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Yalnız eğri yüzeyi vardır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Koni, küre ve silindirin ort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özelliğ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öşeleri ve ayrıtları yokt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ğri yüzeyleri vardı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8604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1052280"/>
            <a:ext cx="822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İzlediğiniz ve dinlediğiniz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çin teşekkürler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15:12Z</dcterms:created>
  <dc:creator>aa</dc:creator>
  <dc:description/>
  <dc:language>en-US</dc:language>
  <cp:lastModifiedBy>aa</cp:lastModifiedBy>
  <dcterms:modified xsi:type="dcterms:W3CDTF">2011-06-07T14:39:53Z</dcterms:modified>
  <cp:revision>11</cp:revision>
  <dc:subject/>
  <dc:title>GEOMETRİK CİSİMLER VE ÖZELLİKLERİ</dc:title>
</cp:coreProperties>
</file>